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media/image9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5.jpeg" ContentType="image/jpeg"/>
  <Override PartName="/ppt/media/image18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dt" idx="46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47"/>
          </p:nvPr>
        </p:nvSpPr>
        <p:spPr>
          <a:xfrm>
            <a:off x="-36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 type="sldNum" idx="48"/>
          </p:nvPr>
        </p:nvSpPr>
        <p:spPr>
          <a:xfrm>
            <a:off x="381456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A87B-F8ED-4066-A260-3FABA5CF1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1492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F793-5089-4A83-88B5-6AE150E1B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A8B-F328-48E1-BB8F-274F03CE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E15-B975-4642-9B15-83164F81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913C1-ACFB-4560-8437-896C8C16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B7D03-A70A-49B8-8850-375A303D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7D8B9-C8DE-4C2D-8B3E-B47166F2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C5A09-2712-4BD2-AF1C-5DE9409C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3A6E7-F5A7-46F9-A8FA-A3C373CC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BF34D-EFE4-4FFF-AAB3-0CD31ECD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42DCD-DABF-4A19-A9E2-89E0B2CF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98FC1-EC0F-4E4C-9B84-50E774EF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5815C-AC3A-49B5-86DE-F5FE2050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B418B-5C36-46E5-A5FA-5A241321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0E6-631B-4F00-87D2-3EDD210E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5C223-9EF3-4A2F-81AF-A5AC47C3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5A74A-17E7-4C66-A073-58270B1B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EE3CF-2352-4800-AFA7-52F40F82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DE315-B177-437A-ACE1-B0171FC4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11F03-6C12-4715-8320-81B0AEC8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24B4D-A087-42ED-A330-0FD7D78B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EB598-58AD-4D9D-A33C-C3E84C79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B45FE-7127-4E99-97E0-D5A84EAA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C2D8E-DA4E-4A11-B3CF-10F218E9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EB92D-5710-44E8-BCFB-277258D0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04E-6092-4661-AE33-E078255E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079C7-F74A-4CA4-9706-40F0FA77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61282-490C-4444-8472-33201F62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5F819-4AA6-422E-8909-9557D3BF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22634-966A-4AB3-A256-3C97C3F6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E4855-689B-4B4B-A287-D5A1C2D7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7B7E1-B71E-4912-986F-E5EBB5D3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3A04E-7E5D-420D-AEF7-1850A5DE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3C385-7EC0-4107-884D-D33BA309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A44D6-920F-4636-B8D3-FFB0F3ED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9FBDF-C8EE-4B1F-A6BF-C0D0505B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E43D-4032-4561-9397-6CE52202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7141B-398A-44EB-8A6D-9649F074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C3A53-8604-452C-A62D-B7E90012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3CE67-B3B8-4CE4-93DF-D259F19D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5C391-E5BE-45F4-A305-ABC32FD7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A1208-B2C7-4D18-987C-D1B0BCF9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CED66-7097-47A8-B8CC-9E2685B1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F49D1-5313-4E65-BF9E-0B4818FB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44155-2555-4E3A-8470-FD70CC58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3C956-CAAF-48DE-945D-E378FD09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7AAFD-8E3F-4293-97A5-BFFFAEA2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403A-0BAD-49E0-86BA-204258AB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54FCC-1493-498F-9CAF-D1969B09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D1EA3-2C24-4F83-A843-CB626A10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E0035-122F-48A2-BA2B-1767AB29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7412D-7850-4367-B29F-DCFB18C8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1B99D-68C8-4A8A-9064-24073964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1A19D-E68F-4395-9FA4-C1334100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DFE09-2640-4F89-9FE6-D743008D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24D6F-D4E5-4705-99EB-C1E9379A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CDEC1-0ABC-4B0B-9777-81D92430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DA88F-A48E-4583-9A3E-6B3CA299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B985-0532-4087-A927-C9B38AB9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FBB32-650B-408E-B527-67A31087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70587C-C0AD-4FB1-BB51-E8694B05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E1406-E283-45FA-8FA2-1DBDB67E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A2FE0-D520-4EC5-926C-3F30C7D8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AA6795-7553-4463-B67A-6066091D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DFB7C-F058-4049-8DD8-24C98F86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8B306-BC23-41D6-83C6-2B369FFE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29524-0FE9-4EA6-AC24-FD9A0122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6F1447-FAF9-4A7D-B739-8BFAA2E4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DB1640-E543-4121-B990-49F128B9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208D-C284-45A3-ADF4-F4B62345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3924DD-A234-4000-AB4D-BAB88F07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7BA50A-4D32-4FCE-A727-496AB5F3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C981CF-5659-4EF8-9221-44D5759D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A8143F-65EF-423D-AD2B-E7AF54DB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8177F9-BBB3-45C7-9028-89A64BE3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89CB63-A0EC-41C8-9042-5166733B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2648DF-3EBD-4E3A-9A63-2E23A109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1013E6-E458-410F-BD08-7566C17A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B2064-DD65-4027-8B26-48332ED4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A7CDA8-62A6-423E-A2A4-CEF1A356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8743-8023-4032-9636-C31975F9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C9F360-4815-46B2-92B4-E980E7AF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0F11F7-BFF8-47AA-91E9-AD5D4006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1D3F28-0FFC-4CD1-BD2D-33B23AD5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899F9C-D856-401A-8920-20EE24D7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EADF19-F14B-4307-A4F4-20EC0021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47F212-969F-4828-93B2-AD6C5ED2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E87E3A-115F-4E8C-828C-24895061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F2F706-D160-49DE-98D5-0805E85E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EC768-529D-4ADA-B4EC-83C5F0A1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0F7986-A035-4FDC-B28A-D975FE02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8082-09F5-4B88-8DE7-451394F0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2FFB41-181A-4B14-8A1B-822527CC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CA7B-2252-49C8-9A9C-D598FE90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90E-FC15-4F49-826D-FED204CE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172C-BD21-4DA3-856F-3B806C1A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BFA5-94B3-4B68-BF02-8ABD133F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31C8-9FDF-46E0-A76F-6DD188A7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3EE9-5D7A-4433-B898-9AA92BA2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DC51-D989-4722-BB42-78DD7DEF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704FC-551E-40F2-9D5C-31222E22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20831-5076-465E-8C96-41A1AC9C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1935B-FBA1-4126-9294-B66B8A88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E2DAA-5C7A-4187-886B-4203D543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6D20E-B84D-4C1D-BF82-03B1A460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DD4-FE6D-483D-9E36-E0970FCE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3CD0F-A3A2-48BA-BBEB-121A219C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B6F8-7CC0-4B87-8CF1-502CF8A2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F3673-EE92-43A7-A452-4FCD5079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D8B59-802B-4AB5-996A-E2C9E6AF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03288-7F2B-40CF-AE59-CD16BAD0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E08B1-D67A-402F-8246-AAC5DF3B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2C64D-4E07-4BF5-AA24-BFC60732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F01F6-3941-422D-90ED-4D1E535B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CF10D-D93F-421C-AAD9-4AF12BDD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B1EF9-519B-46C8-904D-138CF7C5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062-541D-4F52-A83B-64BF77F2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56002-576B-4C4E-A893-5F17ABED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50325-A8B2-424B-8E75-5C31C9F6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A4720-D8CE-498C-A765-4F199065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037F0-3C3E-4125-8191-D8D1FCC0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C2981-3401-46D0-A5FF-938E7BAB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65EC0-4639-4E22-9BB3-AFDE2C9F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39740-6C37-4230-BBE1-62CAB1EB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C3A5F-442B-4BBE-80B1-C2F8AB44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688C7-010C-4F2A-A485-831B6D01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47BDC-18F7-4329-8FC0-215D66C2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318-4B00-459B-A4B2-65652238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83655-00F2-487C-BA21-088C1716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90971-40B1-4B4C-863A-4B315C8A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7E061-C705-4B7F-9A3A-FAABEC98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841E0-2EB7-47D5-84F8-9906DE13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A6F93-1ADE-4F7A-911A-1D88F698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91FB7-74AC-4403-841A-D59382CE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CD52F-07B7-4AE3-945B-E2D1BAF7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4EF66-A94D-470D-AA87-97BF8A15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E30F0-7793-47D5-A98E-7198562A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A138A-744F-4BC1-BB35-389422D3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EF3-580D-4748-B2A2-F8585AF9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99A7B-F447-4E1F-B299-B43AC634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776FC-392C-43FC-B73D-C223B922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765B9-E64B-4254-AE19-73957DD2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F7DAF-485A-4965-BFCD-B8C131B8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09AAC-E83E-4D61-AC42-2CDD82C6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513CC-B9BA-49C3-83F1-A187AEDC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939C5-F12E-4C89-94ED-4591F989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EF473-B516-41A6-9BF4-03AA78D9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F9852-AE64-4F99-BD47-76699E96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DB435-CC18-4AC2-8226-56E2C91B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589-5142-4699-82CD-436E4D09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7AB56-90C1-4061-8AB3-55B9605A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157E1-0F8D-453D-B8B7-E654DF5F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A624F-46B1-41AD-A0EB-115C174A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40724-C974-4E0E-B141-3F3BD6BA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E6EB9-F18D-4756-9CDB-243DA9AA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0684A-5E91-4137-9D7A-7EF2C717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5BC3F-D0B0-4B9C-BF67-8A5BCCE2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FA832-B77B-47C5-AD46-2F773F57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4FCEC-40EB-4B43-89E8-6DFFBB53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B588E-EC26-411F-90D9-8C4CC898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E5E-F34F-4A3A-8DC3-47F5D40F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631DD-17D5-4E3B-9661-DFCBEC6A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71CF3-705A-4641-819A-3D0FC657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B56A4-506D-4867-AECE-8A56E46B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D27B5-55F0-4E0B-AF32-0B31BC3B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09B29-C33E-407F-9267-4B280796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963BA-32E4-40C1-9769-B7206BF0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48E8C-46EC-4036-AB32-8B2CB516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A037C-967C-4DCF-A0E5-5A937A53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78C23-2137-4289-AA1C-5568A697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1F214-6E83-49A5-984E-0CB8499A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9C2-C99F-451E-8A68-0AC7BF2B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5FB1D-87B1-452C-9D88-2DF0A69A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A74C0-1A88-4092-BF78-E2D129C3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C102D-A21D-4774-9CD2-FB4C9DBB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238A2-FE9B-4BE7-A900-C88C4313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292F5-D0F4-4A94-82E5-6529B4E7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77C20-E7B6-47B8-8B14-CA303433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0AD9C-85AE-4E26-BDD3-2D8DBD5B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84BD0-2A39-4ED1-95EF-E254B750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D77C7-1250-467C-AD53-68746BA7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79279-3B09-429D-8A08-EAE7223D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B284-2180-4CB6-A17A-515895B42BB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9311-2231-4FE9-84D6-33688D718EF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FD9B-E291-43A9-BC36-58D0BEF9AD8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3E40-DBFB-4C2B-952B-B58D7CFC799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B855-F159-4560-9168-1A33DFD38A1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5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83A5-0ED8-482F-AFCA-8B2FE0635E4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CC42-EB3A-489A-A8B7-A10D5C4387B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7125-E738-45C3-9176-CAD78105382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1203-62B8-401E-BD66-E21E02ACBB1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0A4E-16AF-4EE1-8860-0EAC8561973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CA77-53CD-4373-AB3A-DFD80AB12F4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1A37-B6EF-4359-81BA-86C90E7A6A5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F9F9-6279-4EEE-9174-BCBCBAE59CB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B9BB-921F-49F3-B3A1-A88F99471F5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D7B4-507A-45B7-8F8A-9DD48EA5279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наест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Box 1"/>
          <p:cNvSpPr/>
          <p:nvPr/>
        </p:nvSpPr>
        <p:spPr>
          <a:xfrm>
            <a:off x="182520" y="1268280"/>
            <a:ext cx="828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99,00 mL раствора Ce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+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1% пре тачке еквиваленције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Object 3"/>
              <p:cNvSpPr txBox="1"/>
              <p:nvPr/>
            </p:nvSpPr>
            <p:spPr>
              <a:xfrm>
                <a:off x="182520" y="2997360"/>
                <a:ext cx="87105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 mol/L -99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9,00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,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Object 4"/>
              <p:cNvSpPr txBox="1"/>
              <p:nvPr/>
            </p:nvSpPr>
            <p:spPr>
              <a:xfrm>
                <a:off x="182520" y="1987560"/>
                <a:ext cx="5302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9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9,00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,9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Object 7"/>
              <p:cNvSpPr txBox="1"/>
              <p:nvPr/>
            </p:nvSpPr>
            <p:spPr>
              <a:xfrm>
                <a:off x="1371600" y="4508640"/>
                <a:ext cx="4681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182520" y="1268280"/>
            <a:ext cx="864252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н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у су еквивалентне количи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и врло мала (занемарљива) 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з повратне рекације.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7"/>
              <p:cNvSpPr txBox="1"/>
              <p:nvPr/>
            </p:nvSpPr>
            <p:spPr>
              <a:xfrm>
                <a:off x="4754520" y="4389480"/>
                <a:ext cx="3154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den>
                                </m:f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e</m:t>
                                        </m:r>
                                      </m:e>
                                      <m:sup>
                                        <m:r>
                                          <m:t xml:space="preserve">4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e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den>
                                </m:f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5" name="Rectangle 4"/>
          <p:cNvSpPr/>
          <p:nvPr/>
        </p:nvSpPr>
        <p:spPr>
          <a:xfrm>
            <a:off x="182520" y="3017880"/>
            <a:ext cx="43419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bRe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bO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4754520" y="2743200"/>
          <a:ext cx="33577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4520" y="2743200"/>
                    <a:ext cx="33577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8" name="Rectangle 4"/>
          <p:cNvSpPr/>
          <p:nvPr/>
        </p:nvSpPr>
        <p:spPr>
          <a:xfrm>
            <a:off x="182520" y="4572000"/>
            <a:ext cx="37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7"/>
              <p:cNvSpPr txBox="1"/>
              <p:nvPr/>
            </p:nvSpPr>
            <p:spPr>
              <a:xfrm>
                <a:off x="4754520" y="5394240"/>
                <a:ext cx="2692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6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,4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06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0" name="Rectangle 7"/>
          <p:cNvSpPr/>
          <p:nvPr/>
        </p:nvSpPr>
        <p:spPr>
          <a:xfrm>
            <a:off x="177120" y="3749760"/>
            <a:ext cx="42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100,00 mL раствора C</a:t>
            </a:r>
            <a:r>
              <a:rPr b="0" lang="sr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sr-CS" sz="20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8"/>
          <p:cNvSpPr/>
          <p:nvPr/>
        </p:nvSpPr>
        <p:spPr>
          <a:xfrm>
            <a:off x="204120" y="2560680"/>
            <a:ext cx="437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пштем случају редокс реакци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"/>
          <p:cNvSpPr/>
          <p:nvPr/>
        </p:nvSpPr>
        <p:spPr>
          <a:xfrm>
            <a:off x="250920" y="1006560"/>
            <a:ext cx="8642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п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ле 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је виша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еквивалентн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јона , док је концентрациј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ак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Object 7"/>
              <p:cNvSpPr txBox="1"/>
              <p:nvPr/>
            </p:nvSpPr>
            <p:spPr>
              <a:xfrm>
                <a:off x="1371600" y="2468520"/>
                <a:ext cx="418932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e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C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4" name="Rectangle 4"/>
          <p:cNvSpPr/>
          <p:nvPr/>
        </p:nvSpPr>
        <p:spPr>
          <a:xfrm>
            <a:off x="182520" y="210672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101,00 </a:t>
            </a:r>
            <a:r>
              <a:rPr b="0" lang="sl-SI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r>
              <a:rPr b="0" lang="sl-SI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+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1% после тачке еквиваленције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Object 6"/>
              <p:cNvSpPr txBox="1"/>
              <p:nvPr/>
            </p:nvSpPr>
            <p:spPr>
              <a:xfrm>
                <a:off x="182520" y="3565440"/>
                <a:ext cx="88520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1,00 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 mol/L  -  100,00 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1,00 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Object 7"/>
              <p:cNvSpPr txBox="1"/>
              <p:nvPr/>
            </p:nvSpPr>
            <p:spPr>
              <a:xfrm>
                <a:off x="182520" y="4389480"/>
                <a:ext cx="5454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1,00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,9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Object 8"/>
              <p:cNvSpPr txBox="1"/>
              <p:nvPr/>
            </p:nvSpPr>
            <p:spPr>
              <a:xfrm>
                <a:off x="1371600" y="5211720"/>
                <a:ext cx="4498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8" name="Rectangle 3"/>
          <p:cNvSpPr/>
          <p:nvPr/>
        </p:nvSpPr>
        <p:spPr>
          <a:xfrm>
            <a:off x="182520" y="6035760"/>
            <a:ext cx="864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после ТЕ је погодније израчунати, помоћ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р се концентрације оба ова јона могу лако израчуна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49480" y="2286000"/>
            <a:ext cx="5040360" cy="259380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2"/>
          <p:cNvSpPr/>
          <p:nvPr/>
        </p:nvSpPr>
        <p:spPr>
          <a:xfrm>
            <a:off x="182520" y="5121360"/>
            <a:ext cx="864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 је нагла промена електродног потенцијала, ЗТТ се лако одређује, велика константа равноте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је симетрична око ТЕ (исти молски однос реактанат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идентичнана и за разблажене  и за концентроване растворе, значи електродни потенцијал не зависи од разблажења рас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182520" y="1268280"/>
            <a:ext cx="835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,00 mL раствора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000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0,01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L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и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м C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1000 mol/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1"/>
          <p:cNvSpPr/>
          <p:nvPr/>
        </p:nvSpPr>
        <p:spPr>
          <a:xfrm>
            <a:off x="208080" y="110952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е са различитим бројем електрона у једначинама полу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2"/>
          <p:cNvSpPr/>
          <p:nvPr/>
        </p:nvSpPr>
        <p:spPr>
          <a:xfrm>
            <a:off x="208080" y="277488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ја 100,00 mL раствора 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центрације 0,0500 mol/L стандардним раствором 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центрације 0,1000 mol/L, у раствору HCl (c =1 mol/L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231840" y="2354400"/>
            <a:ext cx="5433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а Sn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+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тандардним раствором Cr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1371600" y="45086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Object 7"/>
              <p:cNvSpPr txBox="1"/>
              <p:nvPr/>
            </p:nvSpPr>
            <p:spPr>
              <a:xfrm>
                <a:off x="1371600" y="5589720"/>
                <a:ext cx="58039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K</m:t>
                    </m:r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K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n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S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C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0,059V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,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Object 3"/>
              <p:cNvSpPr txBox="1"/>
              <p:nvPr/>
            </p:nvSpPr>
            <p:spPr>
              <a:xfrm>
                <a:off x="6400800" y="4051440"/>
                <a:ext cx="2362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n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den>
                            </m:f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Object 4"/>
              <p:cNvSpPr txBox="1"/>
              <p:nvPr/>
            </p:nvSpPr>
            <p:spPr>
              <a:xfrm>
                <a:off x="6400800" y="4648320"/>
                <a:ext cx="2514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den>
                            </m:f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3"/>
          <p:cNvSpPr/>
          <p:nvPr/>
        </p:nvSpPr>
        <p:spPr>
          <a:xfrm>
            <a:off x="182520" y="2411280"/>
            <a:ext cx="8642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д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су неиститрован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и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вивалентне количи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о 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 мала (занемарљива) 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Object 7"/>
              <p:cNvSpPr txBox="1"/>
              <p:nvPr/>
            </p:nvSpPr>
            <p:spPr>
              <a:xfrm>
                <a:off x="1371600" y="4754520"/>
                <a:ext cx="42163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n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S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1" name="Rectangle 7"/>
          <p:cNvSpPr/>
          <p:nvPr/>
        </p:nvSpPr>
        <p:spPr>
          <a:xfrm>
            <a:off x="182520" y="1268280"/>
            <a:ext cx="6551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п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 почетка титр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лектродни потенцијал не може да се израчуна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"/>
          <p:cNvSpPr/>
          <p:nvPr/>
        </p:nvSpPr>
        <p:spPr>
          <a:xfrm>
            <a:off x="1371600" y="393228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182520" y="5943600"/>
            <a:ext cx="86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пре ТЕ се израчунава, помоћ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Box 1"/>
          <p:cNvSpPr/>
          <p:nvPr/>
        </p:nvSpPr>
        <p:spPr>
          <a:xfrm>
            <a:off x="182520" y="14637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50,00 mL раствора Cr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Object 2"/>
              <p:cNvSpPr txBox="1"/>
              <p:nvPr/>
            </p:nvSpPr>
            <p:spPr>
              <a:xfrm>
                <a:off x="184320" y="3108240"/>
                <a:ext cx="6354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,00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Object 3"/>
              <p:cNvSpPr txBox="1"/>
              <p:nvPr/>
            </p:nvSpPr>
            <p:spPr>
              <a:xfrm>
                <a:off x="184320" y="2103480"/>
                <a:ext cx="89596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050mol/L -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,00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6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Object 7"/>
              <p:cNvSpPr txBox="1"/>
              <p:nvPr/>
            </p:nvSpPr>
            <p:spPr>
              <a:xfrm>
                <a:off x="1371600" y="4297320"/>
                <a:ext cx="5054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8" name="TextBox 5"/>
          <p:cNvSpPr/>
          <p:nvPr/>
        </p:nvSpPr>
        <p:spPr>
          <a:xfrm>
            <a:off x="209520" y="5578560"/>
            <a:ext cx="83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у тачки половине титрације је једнак стандард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ом потенција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82520" y="1049400"/>
            <a:ext cx="864252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н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у су еквивалентне количи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о и врло мала (занемарљива) количин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з повратне рекације.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Object 7"/>
              <p:cNvSpPr txBox="1"/>
              <p:nvPr/>
            </p:nvSpPr>
            <p:spPr>
              <a:xfrm>
                <a:off x="1371600" y="3657600"/>
                <a:ext cx="3367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n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S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C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1" name="Rectangle 4"/>
          <p:cNvSpPr/>
          <p:nvPr/>
        </p:nvSpPr>
        <p:spPr>
          <a:xfrm>
            <a:off x="1371600" y="301788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5"/>
              <p:cNvSpPr txBox="1"/>
              <p:nvPr/>
            </p:nvSpPr>
            <p:spPr>
              <a:xfrm>
                <a:off x="1371600" y="4754520"/>
                <a:ext cx="38336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0,3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0,03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3" name="TextBox 6"/>
          <p:cNvSpPr/>
          <p:nvPr/>
        </p:nvSpPr>
        <p:spPr>
          <a:xfrm>
            <a:off x="182520" y="23493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100,00 mL раствора Cr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"/>
          <p:cNvSpPr/>
          <p:nvPr/>
        </p:nvSpPr>
        <p:spPr>
          <a:xfrm>
            <a:off x="182520" y="5851440"/>
            <a:ext cx="885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на ТЕ је ближи стандардном редокс потенцијалу редокс пара који у својој полуреакцији размењује већи број електро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2"/>
          <p:cNvSpPr/>
          <p:nvPr/>
        </p:nvSpPr>
        <p:spPr>
          <a:xfrm>
            <a:off x="182520" y="907920"/>
            <a:ext cx="8642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п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ле 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је виша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еквивалентне количин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к је концентрациј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ако мал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Object 7"/>
              <p:cNvSpPr txBox="1"/>
              <p:nvPr/>
            </p:nvSpPr>
            <p:spPr>
              <a:xfrm>
                <a:off x="1371600" y="2286000"/>
                <a:ext cx="400068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C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Object 5"/>
              <p:cNvSpPr txBox="1"/>
              <p:nvPr/>
            </p:nvSpPr>
            <p:spPr>
              <a:xfrm>
                <a:off x="182520" y="3475080"/>
                <a:ext cx="86644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1,00 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 mol/L  -  100,00 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05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1,00 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Object 6"/>
              <p:cNvSpPr txBox="1"/>
              <p:nvPr/>
            </p:nvSpPr>
            <p:spPr>
              <a:xfrm>
                <a:off x="182520" y="4389480"/>
                <a:ext cx="5454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1,00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,9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9" name="TextBox 7"/>
          <p:cNvSpPr/>
          <p:nvPr/>
        </p:nvSpPr>
        <p:spPr>
          <a:xfrm>
            <a:off x="182520" y="1917720"/>
            <a:ext cx="845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101,00 mL раствора Cr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1% пo</a:t>
            </a:r>
            <a:r>
              <a:rPr b="0" lang="sr-C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е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тачке еквиваленције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Object 8"/>
              <p:cNvSpPr txBox="1"/>
              <p:nvPr/>
            </p:nvSpPr>
            <p:spPr>
              <a:xfrm>
                <a:off x="1371600" y="5211720"/>
                <a:ext cx="53769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0,3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,9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,5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0,26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1" name="Rectangle 3"/>
          <p:cNvSpPr/>
          <p:nvPr/>
        </p:nvSpPr>
        <p:spPr>
          <a:xfrm>
            <a:off x="182520" y="6218280"/>
            <a:ext cx="86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после ТЕ се израчунава, помоћу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r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"/>
          <p:cNvSpPr/>
          <p:nvPr/>
        </p:nvSpPr>
        <p:spPr>
          <a:xfrm>
            <a:off x="182520" y="5589720"/>
            <a:ext cx="864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није симетрична око 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повећањем разлике у броју електрона који се појављују у две полуреакције титрациона крива је све мање симетрич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3"/>
          <p:cNvSpPr/>
          <p:nvPr/>
        </p:nvSpPr>
        <p:spPr>
          <a:xfrm>
            <a:off x="182520" y="1268280"/>
            <a:ext cx="888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,00 mL раствора 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=0,0500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L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и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м 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1000 mol/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6"/>
          <p:cNvGrpSpPr/>
          <p:nvPr/>
        </p:nvGrpSpPr>
        <p:grpSpPr>
          <a:xfrm>
            <a:off x="1332000" y="2301840"/>
            <a:ext cx="6107040" cy="3024360"/>
            <a:chOff x="1332000" y="2301840"/>
            <a:chExt cx="6107040" cy="3024360"/>
          </a:xfrm>
        </p:grpSpPr>
        <p:pic>
          <p:nvPicPr>
            <p:cNvPr id="855" name="Picture 5" descr="C:\Users\Maca\Desktop\I ned AH\redoks1.png"/>
            <p:cNvPicPr/>
            <p:nvPr/>
          </p:nvPicPr>
          <p:blipFill>
            <a:blip r:embed="rId1"/>
            <a:stretch/>
          </p:blipFill>
          <p:spPr>
            <a:xfrm>
              <a:off x="1332000" y="2301840"/>
              <a:ext cx="6107040" cy="30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TextBox 4"/>
            <p:cNvSpPr/>
            <p:nvPr/>
          </p:nvSpPr>
          <p:spPr>
            <a:xfrm>
              <a:off x="3852360" y="2652480"/>
              <a:ext cx="14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Cr</a:t>
              </a:r>
              <a:r>
                <a:rPr b="0" lang="en-US" sz="2000" spc="-1" strike="noStrike" baseline="30000">
                  <a:solidFill>
                    <a:srgbClr val="0000ff"/>
                  </a:solidFill>
                  <a:latin typeface="Times New Roman"/>
                  <a:ea typeface="Times New Roman"/>
                </a:rPr>
                <a:t>3+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/Cr</a:t>
              </a:r>
              <a:r>
                <a:rPr b="0" lang="en-US" sz="2000" spc="-1" strike="noStrike" baseline="30000">
                  <a:solidFill>
                    <a:srgbClr val="0000ff"/>
                  </a:solidFill>
                  <a:latin typeface="Times New Roman"/>
                  <a:ea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1"/>
          <p:cNvSpPr/>
          <p:nvPr/>
        </p:nvSpPr>
        <p:spPr>
          <a:xfrm>
            <a:off x="182520" y="2349360"/>
            <a:ext cx="8710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оксидо-редукциј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волуметријске методе које се заснивај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едокс реакција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 оксидо-редукционих мето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елемената се може појављивати у више оксидационих ста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стандардних раствора реагенаса је већи него код други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се проширује додатком комплексирајућих супстанци, кој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ђењем комплекса могу мењати електродни потенцијал титрован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или реагенса, чиме реакција постаје бржа и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нтитативн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2"/>
          <p:cNvSpPr/>
          <p:nvPr/>
        </p:nvSpPr>
        <p:spPr>
          <a:xfrm>
            <a:off x="355680" y="100476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е засноване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сидо-редукционим реакциј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1"/>
          <p:cNvSpPr/>
          <p:nvPr/>
        </p:nvSpPr>
        <p:spPr>
          <a:xfrm>
            <a:off x="1025640" y="1003320"/>
            <a:ext cx="699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е код којих се у једначинама полуреакција појављују вода и њени ј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"/>
          <p:cNvSpPr/>
          <p:nvPr/>
        </p:nvSpPr>
        <p:spPr>
          <a:xfrm>
            <a:off x="182520" y="2198520"/>
            <a:ext cx="57657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а Fe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дардним раствором MnO</a:t>
            </a:r>
            <a:r>
              <a:rPr b="0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1189080" y="4114800"/>
            <a:ext cx="611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8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Object 7"/>
              <p:cNvSpPr txBox="1"/>
              <p:nvPr/>
            </p:nvSpPr>
            <p:spPr>
              <a:xfrm>
                <a:off x="1189080" y="5792760"/>
                <a:ext cx="64054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K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nO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4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den>
                                </m:f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den>
                                </m:f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1" name="Rectangle 1"/>
          <p:cNvSpPr/>
          <p:nvPr/>
        </p:nvSpPr>
        <p:spPr>
          <a:xfrm>
            <a:off x="182520" y="2558880"/>
            <a:ext cx="86407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ја 100,00 mL раствора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 0,100 mol/L стандардним раствором 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O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центрације 0,02000 mol/L у киселој средини [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=1 mol/L (pH=0,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2" name="Object 3"/>
              <p:cNvSpPr txBox="1"/>
              <p:nvPr/>
            </p:nvSpPr>
            <p:spPr>
              <a:xfrm>
                <a:off x="6400800" y="5143680"/>
                <a:ext cx="2489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n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M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1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Object 4"/>
              <p:cNvSpPr txBox="1"/>
              <p:nvPr/>
            </p:nvSpPr>
            <p:spPr>
              <a:xfrm>
                <a:off x="6400800" y="4597560"/>
                <a:ext cx="2286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0,68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2"/>
          <p:cNvSpPr/>
          <p:nvPr/>
        </p:nvSpPr>
        <p:spPr>
          <a:xfrm>
            <a:off x="182520" y="2349360"/>
            <a:ext cx="864252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д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Т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су неиститрован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и, еквивалентн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о и врло мала (занемарљива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7"/>
              <p:cNvSpPr txBox="1"/>
              <p:nvPr/>
            </p:nvSpPr>
            <p:spPr>
              <a:xfrm>
                <a:off x="1371600" y="4754520"/>
                <a:ext cx="4456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6" name="Rectangle 3"/>
          <p:cNvSpPr/>
          <p:nvPr/>
        </p:nvSpPr>
        <p:spPr>
          <a:xfrm>
            <a:off x="1371600" y="3932280"/>
            <a:ext cx="611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8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82520" y="1268280"/>
            <a:ext cx="8709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п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 почетка титр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лектродни потенцијал не може да се израчуна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182520" y="6035760"/>
            <a:ext cx="86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пре ТЕ се израчунава, помоћ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9" name="Object 2"/>
              <p:cNvSpPr txBox="1"/>
              <p:nvPr/>
            </p:nvSpPr>
            <p:spPr>
              <a:xfrm>
                <a:off x="182520" y="3067200"/>
                <a:ext cx="6230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,00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Object 3"/>
              <p:cNvSpPr txBox="1"/>
              <p:nvPr/>
            </p:nvSpPr>
            <p:spPr>
              <a:xfrm>
                <a:off x="182520" y="1924200"/>
                <a:ext cx="87948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 -5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020mol/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,00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1" name="TextBox 3"/>
          <p:cNvSpPr/>
          <p:nvPr/>
        </p:nvSpPr>
        <p:spPr>
          <a:xfrm>
            <a:off x="246240" y="1268280"/>
            <a:ext cx="5046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50,00 mL раствора </a:t>
            </a:r>
            <a:r>
              <a:rPr b="0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nO</a:t>
            </a:r>
            <a:r>
              <a:rPr b="0" lang="pt-BR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pt-BR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Object 7"/>
              <p:cNvSpPr txBox="1"/>
              <p:nvPr/>
            </p:nvSpPr>
            <p:spPr>
              <a:xfrm>
                <a:off x="1371600" y="4508640"/>
                <a:ext cx="55357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6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,3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,3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68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TextBox 5"/>
          <p:cNvSpPr/>
          <p:nvPr/>
        </p:nvSpPr>
        <p:spPr>
          <a:xfrm>
            <a:off x="209520" y="5761080"/>
            <a:ext cx="83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у тачки половине титрације је једнак стандард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ом потенција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1"/>
          <p:cNvSpPr/>
          <p:nvPr/>
        </p:nvSpPr>
        <p:spPr>
          <a:xfrm>
            <a:off x="250920" y="1241280"/>
            <a:ext cx="86421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н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Т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су еквивалентне количи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о и врло мала (занемарљива) 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з повратне рекације.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Object 7"/>
              <p:cNvSpPr txBox="1"/>
              <p:nvPr/>
            </p:nvSpPr>
            <p:spPr>
              <a:xfrm>
                <a:off x="1371600" y="4065480"/>
                <a:ext cx="57578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O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4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</m:sup>
                                    </m:sSup>
                                  </m:sub>
                                </m:s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M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F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76" name="Rectangle 3"/>
          <p:cNvSpPr/>
          <p:nvPr/>
        </p:nvSpPr>
        <p:spPr>
          <a:xfrm>
            <a:off x="1371600" y="3068640"/>
            <a:ext cx="612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8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Object 4"/>
          <p:cNvGraphicFramePr/>
          <p:nvPr/>
        </p:nvGraphicFramePr>
        <p:xfrm>
          <a:off x="1371600" y="5211720"/>
          <a:ext cx="49561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211720"/>
                    <a:ext cx="4956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Box 5"/>
          <p:cNvSpPr/>
          <p:nvPr/>
        </p:nvSpPr>
        <p:spPr>
          <a:xfrm>
            <a:off x="250920" y="2573280"/>
            <a:ext cx="4991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100,00 mL раствора </a:t>
            </a:r>
            <a:r>
              <a:rPr b="0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nO</a:t>
            </a:r>
            <a:r>
              <a:rPr b="0" lang="pt-BR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pt-BR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0" name="Object 7"/>
          <p:cNvGraphicFramePr/>
          <p:nvPr/>
        </p:nvGraphicFramePr>
        <p:xfrm>
          <a:off x="7581960" y="5394240"/>
          <a:ext cx="8175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1960" y="5394240"/>
                    <a:ext cx="8175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Rectangle 7"/>
          <p:cNvSpPr/>
          <p:nvPr/>
        </p:nvSpPr>
        <p:spPr>
          <a:xfrm>
            <a:off x="182520" y="6035760"/>
            <a:ext cx="88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на ТЕ зависи и од концентрациј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, односно о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1"/>
          <p:cNvSpPr/>
          <p:nvPr/>
        </p:nvSpPr>
        <p:spPr>
          <a:xfrm>
            <a:off x="182520" y="1006560"/>
            <a:ext cx="864252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п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ле Т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је виша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еквивалентне количи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к је концентрациј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ако м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Object 7"/>
              <p:cNvSpPr txBox="1"/>
              <p:nvPr/>
            </p:nvSpPr>
            <p:spPr>
              <a:xfrm>
                <a:off x="1371600" y="2560680"/>
                <a:ext cx="600084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n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M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85" name="TextBox 4"/>
          <p:cNvSpPr/>
          <p:nvPr/>
        </p:nvSpPr>
        <p:spPr>
          <a:xfrm>
            <a:off x="182520" y="2103480"/>
            <a:ext cx="5099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101,00 mL раствора </a:t>
            </a:r>
            <a:r>
              <a:rPr b="0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nO</a:t>
            </a:r>
            <a:r>
              <a:rPr b="0" lang="pt-BR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pt-BR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Object 4"/>
              <p:cNvSpPr txBox="1"/>
              <p:nvPr/>
            </p:nvSpPr>
            <p:spPr>
              <a:xfrm>
                <a:off x="182520" y="3475080"/>
                <a:ext cx="882324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10 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020 mol/L  - </m:t>
                        </m:r>
                        <m:r>
                          <m:t xml:space="preserve">1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100,00 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,10 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Object 5"/>
              <p:cNvSpPr txBox="1"/>
              <p:nvPr/>
            </p:nvSpPr>
            <p:spPr>
              <a:xfrm>
                <a:off x="182520" y="4479840"/>
                <a:ext cx="54975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02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,10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Object 6"/>
              <p:cNvSpPr txBox="1"/>
              <p:nvPr/>
            </p:nvSpPr>
            <p:spPr>
              <a:xfrm>
                <a:off x="182520" y="5303880"/>
                <a:ext cx="575640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,9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,9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1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47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Rectangle 3"/>
          <p:cNvSpPr/>
          <p:nvPr/>
        </p:nvSpPr>
        <p:spPr>
          <a:xfrm>
            <a:off x="182520" y="6218280"/>
            <a:ext cx="8642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после ТЕ се израчунава, помоћу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O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n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5759280" cy="2838600"/>
          </a:xfrm>
          <a:prstGeom prst="rect">
            <a:avLst/>
          </a:prstGeom>
          <a:ln w="0">
            <a:noFill/>
          </a:ln>
        </p:spPr>
      </p:pic>
      <p:sp>
        <p:nvSpPr>
          <p:cNvPr id="891" name="Rectangle 3"/>
          <p:cNvSpPr/>
          <p:nvPr/>
        </p:nvSpPr>
        <p:spPr>
          <a:xfrm>
            <a:off x="130320" y="1440000"/>
            <a:ext cx="8885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 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=0,100 mol/L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и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м KM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02000 mol/L) при p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182520" y="5943600"/>
            <a:ext cx="871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није симетрична око ТЕ и померена је ка редокс пару који учествује са већим бројем електро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1"/>
          <p:cNvSpPr/>
          <p:nvPr/>
        </p:nvSpPr>
        <p:spPr>
          <a:xfrm>
            <a:off x="611280" y="1208160"/>
            <a:ext cx="82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е где један молекул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 реактаната даје два или више молекула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а производа реакције и обрну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2"/>
          <p:cNvSpPr/>
          <p:nvPr/>
        </p:nvSpPr>
        <p:spPr>
          <a:xfrm>
            <a:off x="1371600" y="3557520"/>
            <a:ext cx="588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4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6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Cr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7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3"/>
          <p:cNvSpPr/>
          <p:nvPr/>
        </p:nvSpPr>
        <p:spPr>
          <a:xfrm>
            <a:off x="2468520" y="4290840"/>
            <a:ext cx="306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e-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S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"/>
          <p:cNvSpPr/>
          <p:nvPr/>
        </p:nvSpPr>
        <p:spPr>
          <a:xfrm>
            <a:off x="182520" y="5229360"/>
            <a:ext cx="864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овано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едукованог облика у Нернстовој једначини имају различите експоненте, па електродни потенцијали зависе од разблажења раств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182520" y="270828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јe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дихроматом, тиосулфатом, јодом, бромом ит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/>
          <p:cNvSpPr/>
          <p:nvPr/>
        </p:nvSpPr>
        <p:spPr>
          <a:xfrm>
            <a:off x="1371600" y="1920960"/>
            <a:ext cx="684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r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4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Cr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6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7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Object 5"/>
              <p:cNvSpPr txBox="1"/>
              <p:nvPr/>
            </p:nvSpPr>
            <p:spPr>
              <a:xfrm>
                <a:off x="1371600" y="2468520"/>
                <a:ext cx="36226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7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−</m:t>
                                        </m:r>
                                      </m:sup>
                                    </m:sSup>
                                  </m:sub>
                                </m:s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2C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F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0" name="Rectangle 2"/>
          <p:cNvSpPr/>
          <p:nvPr/>
        </p:nvSpPr>
        <p:spPr>
          <a:xfrm>
            <a:off x="182520" y="1006560"/>
            <a:ext cx="594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а Fe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дардним раствором Cr</a:t>
            </a:r>
            <a:r>
              <a:rPr b="0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r>
              <a:rPr b="0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6"/>
          <p:cNvSpPr/>
          <p:nvPr/>
        </p:nvSpPr>
        <p:spPr>
          <a:xfrm>
            <a:off x="200160" y="1463760"/>
            <a:ext cx="38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н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ТЕ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4"/>
          <p:cNvSpPr/>
          <p:nvPr/>
        </p:nvSpPr>
        <p:spPr>
          <a:xfrm>
            <a:off x="457200" y="3565440"/>
            <a:ext cx="1592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Object 7"/>
              <p:cNvSpPr txBox="1"/>
              <p:nvPr/>
            </p:nvSpPr>
            <p:spPr>
              <a:xfrm>
                <a:off x="457200" y="3932280"/>
                <a:ext cx="39481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4" name="TextBox 10"/>
          <p:cNvSpPr/>
          <p:nvPr/>
        </p:nvSpPr>
        <p:spPr>
          <a:xfrm>
            <a:off x="197640" y="310824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внотежи (на ТЕ) електродни потенцијали редокс паров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једн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ct 3"/>
              <p:cNvSpPr txBox="1"/>
              <p:nvPr/>
            </p:nvSpPr>
            <p:spPr>
              <a:xfrm>
                <a:off x="457200" y="4846680"/>
                <a:ext cx="56656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2C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  <m:r>
                          <m:t xml:space="preserve">⋅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Object 4"/>
              <p:cNvSpPr txBox="1"/>
              <p:nvPr/>
            </p:nvSpPr>
            <p:spPr>
              <a:xfrm>
                <a:off x="457200" y="5761080"/>
                <a:ext cx="57513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2C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  <m:r>
                          <m:t xml:space="preserve">⋅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Box 5"/>
          <p:cNvSpPr/>
          <p:nvPr/>
        </p:nvSpPr>
        <p:spPr>
          <a:xfrm>
            <a:off x="182520" y="1627200"/>
            <a:ext cx="20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ирањем има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8" name="Object 6"/>
          <p:cNvGraphicFramePr/>
          <p:nvPr/>
        </p:nvGraphicFramePr>
        <p:xfrm>
          <a:off x="457200" y="2084400"/>
          <a:ext cx="688032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84400"/>
                    <a:ext cx="68803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TextBox 7"/>
          <p:cNvSpPr/>
          <p:nvPr/>
        </p:nvSpPr>
        <p:spPr>
          <a:xfrm>
            <a:off x="186480" y="274320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1" name="Object 7"/>
          <p:cNvGraphicFramePr/>
          <p:nvPr/>
        </p:nvGraphicFramePr>
        <p:xfrm>
          <a:off x="457200" y="3108240"/>
          <a:ext cx="20685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108240"/>
                    <a:ext cx="20685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3" name="TextBox 9"/>
          <p:cNvSpPr/>
          <p:nvPr/>
        </p:nvSpPr>
        <p:spPr>
          <a:xfrm>
            <a:off x="2775240" y="3068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4" name="Object 8"/>
          <p:cNvGraphicFramePr/>
          <p:nvPr/>
        </p:nvGraphicFramePr>
        <p:xfrm>
          <a:off x="3490920" y="3108240"/>
          <a:ext cx="245412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0920" y="3108240"/>
                    <a:ext cx="2454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6" name="TextBox 11"/>
          <p:cNvSpPr/>
          <p:nvPr/>
        </p:nvSpPr>
        <p:spPr>
          <a:xfrm>
            <a:off x="184680" y="3789360"/>
            <a:ext cx="39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ом у горњој једначини добија 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7" name="Object 9"/>
          <p:cNvGraphicFramePr/>
          <p:nvPr/>
        </p:nvGraphicFramePr>
        <p:xfrm>
          <a:off x="457200" y="4149720"/>
          <a:ext cx="7662960" cy="86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8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4149720"/>
                    <a:ext cx="766296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9" name="Object 10"/>
          <p:cNvGraphicFramePr/>
          <p:nvPr/>
        </p:nvGraphicFramePr>
        <p:xfrm>
          <a:off x="457200" y="5211720"/>
          <a:ext cx="5857920" cy="85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5211720"/>
                    <a:ext cx="58579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1" name="TextBox 14"/>
          <p:cNvSpPr/>
          <p:nvPr/>
        </p:nvSpPr>
        <p:spPr>
          <a:xfrm>
            <a:off x="232920" y="6126120"/>
            <a:ext cx="73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зависи од концентрације реагенса 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TextBox 1"/>
          <p:cNvSpPr/>
          <p:nvPr/>
        </p:nvSpPr>
        <p:spPr>
          <a:xfrm>
            <a:off x="1403640" y="1017720"/>
            <a:ext cx="64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ређивање завршне тачке титра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 редокс 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2"/>
          <p:cNvSpPr/>
          <p:nvPr/>
        </p:nvSpPr>
        <p:spPr>
          <a:xfrm>
            <a:off x="182520" y="2193840"/>
            <a:ext cx="8961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ршна тачка титрације код редокс титрација се може одреди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у редокс индикат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ом специфичних индикатора (супстанце које реагују само са једним обликом редокс пара; пример: скроб као индикатор, код титрација са јодом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индикацијом (пример: калијум-перманганат као титрационо средство и индикат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1"/>
          <p:cNvSpPr/>
          <p:nvPr/>
        </p:nvSpPr>
        <p:spPr>
          <a:xfrm>
            <a:off x="182520" y="1828800"/>
            <a:ext cx="871056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редокс титрација на титрационој кривој се приказује зависност електродног потенцијала од запремине додатог титрационог сред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више разлога за 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лектродни потенцијал је логаритамска функција концентрација супстанци које реагу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Kоришћење електродних потенцијала олакшава избор редокс-индикатора (индикатори су у овом случају сами редокс парови који реагују на промену потенцијала систем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д инструменталних метода за одређивање ЗТТ редокс титрација се мер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система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код осталих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тријских метода, на ординату се може наносити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и логаритам концентрације титроване супстан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"/>
          <p:cNvSpPr/>
          <p:nvPr/>
        </p:nvSpPr>
        <p:spPr>
          <a:xfrm>
            <a:off x="2930400" y="105876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оне кр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1"/>
          <p:cNvSpPr/>
          <p:nvPr/>
        </p:nvSpPr>
        <p:spPr>
          <a:xfrm>
            <a:off x="182520" y="1646280"/>
            <a:ext cx="871056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кс индикатор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анске супстанце које се понашају као слаба оксидациона или редукциона сред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оксидованог и редукованог облика је различи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се мења у зависности од електродног потенцијала раств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2"/>
          <p:cNvSpPr/>
          <p:nvPr/>
        </p:nvSpPr>
        <p:spPr>
          <a:xfrm>
            <a:off x="2772360" y="110484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докс индика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3"/>
          <p:cNvSpPr/>
          <p:nvPr/>
        </p:nvSpPr>
        <p:spPr>
          <a:xfrm>
            <a:off x="1371600" y="3200400"/>
            <a:ext cx="660564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z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ed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4"/>
          <p:cNvSpPr/>
          <p:nvPr/>
        </p:nvSpPr>
        <p:spPr>
          <a:xfrm>
            <a:off x="1384200" y="3565440"/>
            <a:ext cx="303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1                     боја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1412280" y="4022640"/>
            <a:ext cx="647316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ксидовани облик индикат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дуковани облик индикат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андардни електродни потенцијал индикат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8"/>
          <p:cNvSpPr/>
          <p:nvPr/>
        </p:nvSpPr>
        <p:spPr>
          <a:xfrm>
            <a:off x="182520" y="5211720"/>
            <a:ext cx="582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верзибилне индикаторске полуреакци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Object 7"/>
              <p:cNvSpPr txBox="1"/>
              <p:nvPr/>
            </p:nvSpPr>
            <p:spPr>
              <a:xfrm>
                <a:off x="1371600" y="5761080"/>
                <a:ext cx="32925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1"/>
          <p:cNvSpPr/>
          <p:nvPr/>
        </p:nvSpPr>
        <p:spPr>
          <a:xfrm>
            <a:off x="186480" y="1096920"/>
            <a:ext cx="284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бојни индикатор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2" name="Object 3"/>
              <p:cNvSpPr txBox="1"/>
              <p:nvPr/>
            </p:nvSpPr>
            <p:spPr>
              <a:xfrm>
                <a:off x="1371600" y="2743200"/>
                <a:ext cx="17683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  <m:r>
                          <m:t xml:space="preserve">]</m:t>
                        </m:r>
                      </m:den>
                    </m:f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Object 4"/>
              <p:cNvSpPr txBox="1"/>
              <p:nvPr/>
            </p:nvSpPr>
            <p:spPr>
              <a:xfrm>
                <a:off x="4695840" y="2743200"/>
                <a:ext cx="1833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  <m:r>
                          <m:t xml:space="preserve">]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4" name="Rectangle 5"/>
          <p:cNvSpPr/>
          <p:nvPr/>
        </p:nvSpPr>
        <p:spPr>
          <a:xfrm>
            <a:off x="182520" y="5121360"/>
            <a:ext cx="393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ал прелаза индик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Object 5"/>
              <p:cNvSpPr txBox="1"/>
              <p:nvPr/>
            </p:nvSpPr>
            <p:spPr>
              <a:xfrm>
                <a:off x="4114800" y="4892760"/>
                <a:ext cx="3454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p>
                    </m:sSup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6" name="TextBox 9"/>
          <p:cNvSpPr/>
          <p:nvPr/>
        </p:nvSpPr>
        <p:spPr>
          <a:xfrm>
            <a:off x="179280" y="1646280"/>
            <a:ext cx="86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индикатора се мења када се однос концентрација оксидованог и редукованог облика индикатора промени о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10"/>
          <p:cNvSpPr/>
          <p:nvPr/>
        </p:nvSpPr>
        <p:spPr>
          <a:xfrm>
            <a:off x="3668760" y="3017880"/>
            <a:ext cx="58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9"/>
          <p:cNvSpPr/>
          <p:nvPr/>
        </p:nvSpPr>
        <p:spPr>
          <a:xfrm>
            <a:off x="182520" y="5851440"/>
            <a:ext cx="86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и електродни потенцијал индикатора треба да буде близак електродном потенцијалу на тачки еквиваленц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9"/>
          <p:cNvSpPr/>
          <p:nvPr/>
        </p:nvSpPr>
        <p:spPr>
          <a:xfrm>
            <a:off x="182520" y="4114800"/>
            <a:ext cx="864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 једног облика индикатора мора бити 10 пута већа од концентрације другог облика индикатора, да би се уочила визуелна про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2"/>
          <p:cNvSpPr/>
          <p:nvPr/>
        </p:nvSpPr>
        <p:spPr>
          <a:xfrm>
            <a:off x="182520" y="1279440"/>
            <a:ext cx="871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двобојног редокс индикатора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оин (1,10-фенантролин Fe (II)сулфат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ксидовани облик: светло плавe бо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дуковани облик: црвене бо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6" descr=""/>
          <p:cNvPicPr/>
          <p:nvPr/>
        </p:nvPicPr>
        <p:blipFill>
          <a:blip r:embed="rId1"/>
          <a:srcRect l="0" t="0" r="45759" b="0"/>
          <a:stretch/>
        </p:blipFill>
        <p:spPr>
          <a:xfrm>
            <a:off x="457200" y="2895480"/>
            <a:ext cx="2238480" cy="2944800"/>
          </a:xfrm>
          <a:prstGeom prst="rect">
            <a:avLst/>
          </a:prstGeom>
          <a:ln w="0">
            <a:noFill/>
          </a:ln>
        </p:spPr>
      </p:pic>
      <p:sp>
        <p:nvSpPr>
          <p:cNvPr id="942" name="Text Box 7"/>
          <p:cNvSpPr/>
          <p:nvPr/>
        </p:nvSpPr>
        <p:spPr>
          <a:xfrm>
            <a:off x="4206960" y="2895480"/>
            <a:ext cx="3959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en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(phen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ветло пла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рве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8"/>
          <p:cNvSpPr/>
          <p:nvPr/>
        </p:nvSpPr>
        <p:spPr>
          <a:xfrm>
            <a:off x="633240" y="5950080"/>
            <a:ext cx="1390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en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9"/>
          <p:cNvSpPr/>
          <p:nvPr/>
        </p:nvSpPr>
        <p:spPr>
          <a:xfrm>
            <a:off x="4230720" y="3905280"/>
            <a:ext cx="174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06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Object 5"/>
              <p:cNvSpPr txBox="1"/>
              <p:nvPr/>
            </p:nvSpPr>
            <p:spPr>
              <a:xfrm>
                <a:off x="4206960" y="5303880"/>
                <a:ext cx="3914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6" name="Rectangle 11"/>
          <p:cNvSpPr/>
          <p:nvPr/>
        </p:nvSpPr>
        <p:spPr>
          <a:xfrm>
            <a:off x="4216320" y="466416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ал прелаза индик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12"/>
          <p:cNvSpPr/>
          <p:nvPr/>
        </p:nvSpPr>
        <p:spPr>
          <a:xfrm>
            <a:off x="4224960" y="5943600"/>
            <a:ext cx="4749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за титрацију Fe(II) раствором Ce(IV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06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1"/>
          <p:cNvSpPr/>
          <p:nvPr/>
        </p:nvSpPr>
        <p:spPr>
          <a:xfrm>
            <a:off x="190080" y="1279440"/>
            <a:ext cx="305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бојни индикатор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2"/>
          <p:cNvSpPr/>
          <p:nvPr/>
        </p:nvSpPr>
        <p:spPr>
          <a:xfrm>
            <a:off x="182520" y="3932280"/>
            <a:ext cx="86425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купна концентрација индикатора у раствор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инимална концентрација обојеног облика неопходна де се         примети обојеност раств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Object 7"/>
              <p:cNvSpPr txBox="1"/>
              <p:nvPr/>
            </p:nvSpPr>
            <p:spPr>
              <a:xfrm>
                <a:off x="1371600" y="2651040"/>
                <a:ext cx="45036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1" name="TextBox 9"/>
          <p:cNvSpPr/>
          <p:nvPr/>
        </p:nvSpPr>
        <p:spPr>
          <a:xfrm>
            <a:off x="179280" y="1920960"/>
            <a:ext cx="65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једнобојних индикатора се уочава када важ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"/>
          <p:cNvSpPr/>
          <p:nvPr/>
        </p:nvSpPr>
        <p:spPr>
          <a:xfrm>
            <a:off x="179280" y="539424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фениламин, дифенилбензидин, метиленско пл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1"/>
          <p:cNvSpPr/>
          <p:nvPr/>
        </p:nvSpPr>
        <p:spPr>
          <a:xfrm>
            <a:off x="182520" y="118908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једнобојног редокс индикатора: 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фениламин сулфонска киселина (најчешће у облику сол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ксидовани облик: љубичасто плавe бо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дуковани облик: безбој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3590280" y="2925720"/>
            <a:ext cx="174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8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82520" y="457200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титрација 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им раствором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24 V при pH = 0,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м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e(III) који настају у току титрације се комплексирају са фосфорном киселином, чиме се смањује                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кс па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име и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Picture 10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1612800" cy="162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7" name="Object 8"/>
              <p:cNvSpPr txBox="1"/>
              <p:nvPr/>
            </p:nvSpPr>
            <p:spPr>
              <a:xfrm>
                <a:off x="4767120" y="5689440"/>
                <a:ext cx="8859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8" name="Rectangle 9"/>
          <p:cNvSpPr/>
          <p:nvPr/>
        </p:nvSpPr>
        <p:spPr>
          <a:xfrm>
            <a:off x="958680" y="6035760"/>
            <a:ext cx="14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~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1"/>
          <p:cNvSpPr/>
          <p:nvPr/>
        </p:nvSpPr>
        <p:spPr>
          <a:xfrm>
            <a:off x="182520" y="1828800"/>
            <a:ext cx="86425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кс методе се на основу тога да ли се користи стандардни раствор оксидационог или редукционог средства деле 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иметри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тометри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"/>
          <p:cNvSpPr/>
          <p:nvPr/>
        </p:nvSpPr>
        <p:spPr>
          <a:xfrm>
            <a:off x="2716920" y="109692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ела редокс мет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7"/>
          <p:cNvSpPr/>
          <p:nvPr/>
        </p:nvSpPr>
        <p:spPr>
          <a:xfrm>
            <a:off x="182520" y="3565440"/>
            <a:ext cx="86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шћа подела је према стандардном раствору реагенса који се примењује у конкретном случај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5"/>
          <p:cNvSpPr/>
          <p:nvPr/>
        </p:nvSpPr>
        <p:spPr>
          <a:xfrm>
            <a:off x="144720" y="4389480"/>
            <a:ext cx="6922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ндардни раствор перманганата- перманганометри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ндардни раствор дихромата – дихроматометри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ндардни раствор јода – јодиметри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ндардни раствор церијума(IV) – цериметри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ндардни раствор бромата – броматометрија ит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1"/>
          <p:cNvSpPr/>
          <p:nvPr/>
        </p:nvSpPr>
        <p:spPr>
          <a:xfrm>
            <a:off x="182520" y="1628640"/>
            <a:ext cx="82821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ела титра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итрације код којих се појављује исти број електрона у обе једначине полуреакци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итрације код којих се појављује различит број електрона у једначинама полуреакци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итрације код којих се у једначинама полуреакције појављују вода и њени јон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итрације код којих један молекул/јон ректаната дајe више молекула/јона производа реакције или обрнут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1"/>
          <p:cNvSpPr/>
          <p:nvPr/>
        </p:nvSpPr>
        <p:spPr>
          <a:xfrm>
            <a:off x="1343880" y="1008000"/>
            <a:ext cx="64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анта равнотеже редокс реак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2" descr=""/>
          <p:cNvPicPr/>
          <p:nvPr/>
        </p:nvPicPr>
        <p:blipFill>
          <a:blip r:embed="rId1"/>
          <a:stretch/>
        </p:blipFill>
        <p:spPr>
          <a:xfrm>
            <a:off x="5796000" y="1646280"/>
            <a:ext cx="1803240" cy="81576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3"/>
          <p:cNvSpPr/>
          <p:nvPr/>
        </p:nvSpPr>
        <p:spPr>
          <a:xfrm>
            <a:off x="457200" y="1828800"/>
            <a:ext cx="408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Re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Re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O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6"/>
          <p:cNvSpPr/>
          <p:nvPr/>
        </p:nvSpPr>
        <p:spPr>
          <a:xfrm>
            <a:off x="248760" y="2560680"/>
            <a:ext cx="46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равнотеже је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7" name="Object 7"/>
          <p:cNvGraphicFramePr/>
          <p:nvPr/>
        </p:nvGraphicFramePr>
        <p:xfrm>
          <a:off x="3024360" y="2468520"/>
          <a:ext cx="1536480" cy="7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24360" y="2468520"/>
                    <a:ext cx="1536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Box 9"/>
          <p:cNvSpPr/>
          <p:nvPr/>
        </p:nvSpPr>
        <p:spPr>
          <a:xfrm>
            <a:off x="182520" y="3292560"/>
            <a:ext cx="6550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равнотежа:          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твор може имати само један електродни потенција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0" name="Object 14"/>
          <p:cNvGraphicFramePr/>
          <p:nvPr/>
        </p:nvGraphicFramePr>
        <p:xfrm>
          <a:off x="457200" y="4022640"/>
          <a:ext cx="4191120" cy="276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1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022640"/>
                    <a:ext cx="4191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2" name="Picture 15" descr=""/>
          <p:cNvPicPr/>
          <p:nvPr/>
        </p:nvPicPr>
        <p:blipFill>
          <a:blip r:embed="rId6"/>
          <a:stretch/>
        </p:blipFill>
        <p:spPr>
          <a:xfrm>
            <a:off x="8244000" y="6161040"/>
            <a:ext cx="718920" cy="308160"/>
          </a:xfrm>
          <a:prstGeom prst="rect">
            <a:avLst/>
          </a:prstGeom>
          <a:ln w="0">
            <a:noFill/>
          </a:ln>
        </p:spPr>
      </p:pic>
      <p:sp>
        <p:nvSpPr>
          <p:cNvPr id="773" name="TextBox 16"/>
          <p:cNvSpPr/>
          <p:nvPr/>
        </p:nvSpPr>
        <p:spPr>
          <a:xfrm>
            <a:off x="3115080" y="6161040"/>
            <a:ext cx="51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у коефицијенти активитета једнаки јединиц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1"/>
          <p:cNvSpPr/>
          <p:nvPr/>
        </p:nvSpPr>
        <p:spPr>
          <a:xfrm>
            <a:off x="1208160" y="982800"/>
            <a:ext cx="672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е са истим бројем електрона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обе једначине полу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"/>
          <p:cNvSpPr/>
          <p:nvPr/>
        </p:nvSpPr>
        <p:spPr>
          <a:xfrm>
            <a:off x="201960" y="2028960"/>
            <a:ext cx="427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а Fe(II) раствором Ce(I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182520" y="2651040"/>
            <a:ext cx="8640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ја 100,00 mL раствора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0,1000 mol/L раствором C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0,1000 mol/L у киселој средини, c(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1 mol/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4"/>
          <p:cNvSpPr/>
          <p:nvPr/>
        </p:nvSpPr>
        <p:spPr>
          <a:xfrm>
            <a:off x="1371600" y="4114800"/>
            <a:ext cx="372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sl-SI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Object 7"/>
              <p:cNvSpPr txBox="1"/>
              <p:nvPr/>
            </p:nvSpPr>
            <p:spPr>
              <a:xfrm>
                <a:off x="457200" y="5029200"/>
                <a:ext cx="56800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K</m:t>
                    </m:r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K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0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e</m:t>
                                        </m:r>
                                      </m:e>
                                      <m:sup>
                                        <m:r>
                                          <m:t xml:space="preserve">4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/Ce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0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/Fe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sub>
                                </m:sSub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0,059V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Object 3"/>
              <p:cNvSpPr txBox="1"/>
              <p:nvPr/>
            </p:nvSpPr>
            <p:spPr>
              <a:xfrm>
                <a:off x="6400800" y="3789360"/>
                <a:ext cx="2286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e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e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den>
                            </m:f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Object 4"/>
              <p:cNvSpPr txBox="1"/>
              <p:nvPr/>
            </p:nvSpPr>
            <p:spPr>
              <a:xfrm>
                <a:off x="6400800" y="4395960"/>
                <a:ext cx="2235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68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182520" y="3040200"/>
            <a:ext cx="86425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д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је вишак неиститрованих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вивалентна 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, као и врло мал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немарљива) 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2" name="Object 7"/>
          <p:cNvGraphicFramePr/>
          <p:nvPr/>
        </p:nvGraphicFramePr>
        <p:xfrm>
          <a:off x="1371600" y="4983120"/>
          <a:ext cx="445788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983120"/>
                    <a:ext cx="44578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4" name="Rectangle 7"/>
          <p:cNvSpPr/>
          <p:nvPr/>
        </p:nvSpPr>
        <p:spPr>
          <a:xfrm>
            <a:off x="182520" y="1455840"/>
            <a:ext cx="87091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п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 почетка титр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су сам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, али раствор садржи и малу, непознату концентрациј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ксидација ваздушним кисеоником) - електродни потенцијал се не може израчунати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4"/>
          <p:cNvSpPr/>
          <p:nvPr/>
        </p:nvSpPr>
        <p:spPr>
          <a:xfrm>
            <a:off x="1371600" y="4468680"/>
            <a:ext cx="37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3"/>
          <p:cNvSpPr/>
          <p:nvPr/>
        </p:nvSpPr>
        <p:spPr>
          <a:xfrm>
            <a:off x="182520" y="1079640"/>
            <a:ext cx="864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до ТЕ је погодније израчунати, помоћ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р се концентрације оба ова јона могу лако израчунати на основ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 додатог реаген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2"/>
          <p:cNvSpPr/>
          <p:nvPr/>
        </p:nvSpPr>
        <p:spPr>
          <a:xfrm>
            <a:off x="182520" y="234792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00 mL раствора Ce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+</a:t>
            </a:r>
            <a:r>
              <a:rPr b="0" lang="sl-SI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Object 4"/>
          <p:cNvGraphicFramePr/>
          <p:nvPr/>
        </p:nvGraphicFramePr>
        <p:xfrm>
          <a:off x="182520" y="3137040"/>
          <a:ext cx="7272360" cy="84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3137040"/>
                    <a:ext cx="72723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6"/>
          <p:cNvGraphicFramePr/>
          <p:nvPr/>
        </p:nvGraphicFramePr>
        <p:xfrm>
          <a:off x="182520" y="4510080"/>
          <a:ext cx="88678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520" y="4510080"/>
                    <a:ext cx="88678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2" name="Object 7"/>
          <p:cNvGraphicFramePr/>
          <p:nvPr/>
        </p:nvGraphicFramePr>
        <p:xfrm>
          <a:off x="1371600" y="5683320"/>
          <a:ext cx="571032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5683320"/>
                    <a:ext cx="57103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Box 2"/>
          <p:cNvSpPr/>
          <p:nvPr/>
        </p:nvSpPr>
        <p:spPr>
          <a:xfrm>
            <a:off x="182520" y="12668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50,00 mL раствора Ce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+</a:t>
            </a:r>
            <a:r>
              <a:rPr b="0" lang="sl-SI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Object 4"/>
              <p:cNvSpPr txBox="1"/>
              <p:nvPr/>
            </p:nvSpPr>
            <p:spPr>
              <a:xfrm>
                <a:off x="182520" y="1920960"/>
                <a:ext cx="639612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,00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Object 6"/>
              <p:cNvSpPr txBox="1"/>
              <p:nvPr/>
            </p:nvSpPr>
            <p:spPr>
              <a:xfrm>
                <a:off x="182520" y="3200400"/>
                <a:ext cx="8942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 - 5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,00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Object 7"/>
              <p:cNvSpPr txBox="1"/>
              <p:nvPr/>
            </p:nvSpPr>
            <p:spPr>
              <a:xfrm>
                <a:off x="1371600" y="4297320"/>
                <a:ext cx="55389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8" name="TextBox 5"/>
          <p:cNvSpPr/>
          <p:nvPr/>
        </p:nvSpPr>
        <p:spPr>
          <a:xfrm>
            <a:off x="302400" y="5486400"/>
            <a:ext cx="852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у тачки половине титрације је једнак стандард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ом потенцијалу титрованог редокс сист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ом случају стандардном електродном потенција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0:47:46Z</dcterms:created>
  <dc:creator>Korisnik</dc:creator>
  <dc:description/>
  <dc:language>en-US</dc:language>
  <cp:lastModifiedBy>korisnik</cp:lastModifiedBy>
  <dcterms:modified xsi:type="dcterms:W3CDTF">2017-12-01T12:47:09Z</dcterms:modified>
  <cp:revision>517</cp:revision>
  <dc:subject/>
  <dc:title>Slide 1</dc:title>
</cp:coreProperties>
</file>